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19.11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C080D-E6B9-4A3C-AA5D-9451B3E4F9F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6C393-38E4-424D-B0DF-6BA9BDFDB83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F4FD5-F806-45A0-811D-334605EC7B6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AB09E-6818-44F0-8E2D-A908E425C96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3B654-FE91-4F2B-9759-841B0438433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9B3C5-C110-4C9F-87BC-C8E9811E281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F6C80-7ECF-4B87-B1E0-FB4071EC615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D9D73-A540-4DFB-B861-85DE1ECB4D8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D9D061-C80B-4124-8D55-B88122B3744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363BC-9C54-4C2C-8F71-990E82ECEB1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97904-4B9E-4025-B2C8-6466EA51424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E02D49-D789-4A27-8844-B9EE7BD9C74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E9C90-3336-4C1F-AC1D-B93B32E3CDE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532126-FB37-4CAD-B4C0-B91B857BA98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5CA23-5999-4649-9E77-F91EBD9EE0B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8E1738-511A-42F6-B7B4-A8AAAA9FC32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0C242-A24E-49FD-88E8-3EDB0355554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FE51-E5B1-462F-A9F7-8A5589849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B1C1-2C45-46DF-B0EF-B4EC9228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D552-4C6C-4457-946E-1BCE51D1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2400-F91C-4172-8827-3283AA90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282E-C003-4B9C-83DF-CD69F1B44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2F45-E087-42C1-9752-65A6AC9E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A919-3C77-4969-BC7D-FF5347AA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2F88-C70B-4F00-B57C-EE5F1551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E176-EFAD-43F2-A392-75089C0F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4846-651A-4E19-AC1B-DAAEABC0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CE2-34D9-4973-8C58-91871537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0C05-FE48-4E6F-B495-E652E741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E9C3E2-4601-4061-B9F9-5604114AF5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cs-CZ" sz="6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2279160"/>
            <a:ext cx="78868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Archiv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Arial"/>
              </a:rPr>
              <a:t>Helena Matasov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také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bude zajímat orgány  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2136240"/>
            <a:ext cx="7886880" cy="492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má příjemce zavedeny vhodné a přiměřené systémy pro dokladování projektových výdajů a aktiv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je vedena řádná archivace dokumentů souvisejících s projektem realizovaným               za podpory OP V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případě, že je v projektu zahrnut partner, proběhnou i u něho stejné kontroly jako u příjemce a dále u něj ověří plnění partnerství stanovené    ve schváleném projektu a uzavřeném smluvním vztahu mezi příjemcem a partne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 udržitelnost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8143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é jsou stanoveny lhůty pro archivování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82640" y="1636200"/>
            <a:ext cx="7886880" cy="51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í pro účely kontroly ze strany Evropské komise, Evropského účetního dvora, Nejvyššího kontrolního úřadu a dalších oprávněných osob archivova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 konce roku 2025,                          pokud český právní systém nestanovuje           lhůtu delš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*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30 let mzdové listy nebo účetní záznamy, které slouží pro důchodové zabezpe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artační znak bude v rozmezí – A/V/S /17 nebo /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= archiv, V = výběr,S = stoupa/skar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 = délka uložení dokumentu před dalším zpracováním (počíná běžet 1. dnem následujícího roku, ve kterém byla vyřízena nebo pozbyla význ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82640" y="35100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82640" y="1708200"/>
            <a:ext cx="807264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ěr dokumentů a dokladů, které je potřeba uchovávat, se musí řídit zejména hlediskem prokazatelnosti, tzn.,  že je zapotřebí uchovávat všechny dokumenty a doklady způsobilé jednoznačně prokázat kontrolujícímu orgánu, že poskytnuté prostředky byly využity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 souladu s účelem a prav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ozhodnutí o poskytnutí dotace je pro příjemce stanovena povinnost uchovávat dokumenty a doklady vztahující se k projektům odděleně, se zvláštní lhůtou a zvláštním režimem práce uvedené v Obecném n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ponechá originály dokladů jako součást svého účetnictví, daňové evidence a ostatních evidencí a při jejich uchovávání se řídí českými právními předpisy a nařízeními 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82640" y="1922400"/>
            <a:ext cx="7886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lady a záznamy o realiz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záznamy a dokumenty týkající se výdajů a auditů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originály dokladů týkajících se implementace a čerpání z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dělené účetnictví s originálními účetními doklady, které prokazují uskutečnění uznatelných výdajů nebo na základě kterých se uznatelné výdaje realizu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korespondenci s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rávy o výsledcích zadávacích řízení (výběr dodavatele) včetně související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pie zkontrolované, autorizované žádosti příjemce     o platbu, včetně příl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iginály zápisů z provedených kontrol a potvr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 schválení a příkaz k proplac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působilých výdajů projektu (podle finančních to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další dokumentaci vzniklou při implementaci z úrovně příje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Legislativní ráme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82640" y="1564920"/>
            <a:ext cx="778680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 č. 499/2004 Sb.,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yla schválena novela č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9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ÁKON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 dne 28. května 2009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terým se mění zákon č. 499/2004 Sb., o archivnictví a spisové službě a o změně některých zákonů, ve znění pozdějších předpisů, a další související zákony (účinnost od 1. 7.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6/2004 Sb., o podrobnostech výkonu spisové služby, v platném zn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5/2004 Sb., kterou se provádějí některá stanovení zákona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82640" y="1922040"/>
            <a:ext cx="78868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6600" spc="-1" strike="noStrike">
                <a:solidFill>
                  <a:srgbClr val="f3912c"/>
                </a:solidFill>
                <a:latin typeface="Arial"/>
              </a:rPr>
              <a:t>Děkuji za pozornost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lena Matas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elena.matasova@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.: +420 234 814 2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bil: +420 602 545 7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se v prezentaci dozví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82640" y="1767960"/>
            <a:ext cx="78868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k procesu uchovávání dokumentů a dokladů vzniklých při implementaci pomoci                z Evropského sociálního fondu a státního rozpočtu České republ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k tvorbě, vedení a uklád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de o informace charakteru doporučujícího,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ávaznosti na vytvoření vlastních interních předpisů, přičemž tyto nesmí být v rozporu s platnou Příručkou pro příjemce a Rozhodnutím o poskytnutí do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povinen archivova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šechny subjekty zapojené                    do implementační struktury Operačního programu Vzdělávání pro konkurenceschopnost  (OP V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jem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 subjekt realizující projekt       z OP V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a co je zodpovědný příjem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šťuje archivaci písemností a dokumentů spojených s projek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azuje i dodavatele, aby umožnil všem subjektům oprávněným k výkonu kontroly provést kontrolu dokladů souvisejících s plněním zakázky pro projekt, a to po dobu danou právními předpisy ČR k jejich archiva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davate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osoba povinná spolupůsobit dle zákona č. 563/1991 Sb., o účetnictví, a zákona č. 235/2004 Sb., o dani z přidané hodnoty, je povinen uchovávat doklady spojené s dodávkou a spolupůsobit při kontrole dle zákona č. 320/2001 Sb. o finanční kontrole bez omezení, pokud k tomu bude vyzvá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archivace dokumentů a d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ložení těch dokumentů,  jejichž oběh byl ukončen, zkontrolován   a vyhodnocen, pro možnost jejich opětovného použití a rychlého přístupu   k n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O doporučuje všem příjemcům, aby stanovili jednu osobu zodpovědnou za vedení a spravování „předběžného archivu“ realizovaného projektu dle těchto archivačních pravidel – tato odpovědnost nemusí být její jediná, vedení a spravování archivu může být její vedlejší činnos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9720" y="27936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á jsou základní pravidla archiva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příjemce a partnera/ů, v případě že projekt má partnera/y, jsou uloženy všechny originály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chování a zabezpečení před ztrá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účetní dokumenty a smluvní písemnosti musí být uloženy na jednom místě, z důvodu zpřístupnění jednotlivých dokladů v případě k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uhopisy některých dokumentů, případně ověřené fotokopie jsou uloženy u ŘO a 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1000" y="136440"/>
            <a:ext cx="78865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i použití IT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e archivací mysl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82640" y="1351080"/>
            <a:ext cx="788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kopií dokumentů a jejich ukládání na různá místa disku PC nebo na další nosiče dat (CD-R, DVD, příp. další), a to z důvodů,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škození pevných disků počítače, případně jiné poruch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cizení techniky, případně jejího zniče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ho vymaz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 aktualizace dat a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1000" y="707760"/>
            <a:ext cx="78865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musíte uděl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493640"/>
            <a:ext cx="788688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umenty v digitální podobě určené ke skartačnímu řízení musí být opatřeny metadaty podle národního standardu pro elektronické systémy spisové služby – není-li tomu tak, převedou se po uzavření spisu          do analogové podoby (§ 69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etada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data popisující souvislosti, obsah a strukturu dokumentů a jejich správu v průběhu č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elně (min.1x za dva roky) kontrolovat stav médií k zálohování a zálohovacích mecha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archivovaní a zálohování vždy porovnat  zálohovaná data s originálem – ver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stit trvalost uložených dat s ohledem na použitá média v průběhu stanovené archivační d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orgánem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640" y="2136600"/>
            <a:ext cx="788688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ředníci nebo pověření zástupci Komise, Evropské investiční banky, Evropského účetního dvora, Evropského úřadu pro potírání podvodného jednání (OLA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ávislé auditní org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Platebního a certifikačního orgánu (P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ŘO – Sekce řízení Operačních programů EU (O 41, 42, 46), pracovníci věcných útvarů přizvaní na kontrolu pracovníky Odboru CERA, Odboru řízení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P VK a Odboru 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ditní orgány Ř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vyšší kontrolní úřad (NKÚ), Ministerstvo financí ČR a finanční úř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adně další orgány s pověřením ke kontrole (FÚ, ÚHOS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18T11:21:02Z</dcterms:modified>
  <cp:revision>158</cp:revision>
  <dc:subject/>
  <dc:title>Snímek 1</dc:title>
</cp:coreProperties>
</file>